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8F49B-956E-4155-97CA-C335F7E2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ED4A2-04CB-4E34-B44B-5C7AFE18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4C77F-7B91-48AF-AB05-3D672F2E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6D9C7-7662-4F05-8C86-E086A44C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1C67-A90F-4B42-AA9A-E7AC6A50C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574D-82D4-4132-8117-7650CC64C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1DA5-9015-4952-AA40-601E153F2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74E3-96D5-4F21-AE11-BF43A9EE0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5B8A-BDF2-44CC-9798-10E2493B8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C98A-25A1-4535-9583-4504A9591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B711-9FFE-4DD0-8543-82AA6C499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FE56-5EFA-42B4-80F6-581D934D8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AF3-6E7B-4BCC-AF3D-A9D71A89F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7B97-350E-4A45-9DEF-33EC51765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0398-4FBE-4A2D-81BF-E754412F1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6A95-7519-40EA-AAAA-D0E20F4C8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4C065-4B57-4B8E-A08D-D3D153B5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Sigmund Freud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igmund Freud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5715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727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7276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52280" y="6627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n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oving to London with the famil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6629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ilhel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e talking with you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6, 19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Lucida Sans Unicode"/>
              </a:rPr>
              <a:t>Sigmund Freud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published The Ego and the I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1, 19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Lucida Sans Unicode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tem and Taboo was publish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8, 19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arl Jung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nice to meet yo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9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94360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ally received my doctorate degree in medicine. aweso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8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28600" y="457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sigmund-freud-med" descr=""/>
          <p:cNvPicPr/>
          <p:nvPr/>
        </p:nvPicPr>
        <p:blipFill>
          <a:blip r:embed=""/>
          <a:stretch/>
        </p:blipFill>
        <p:spPr>
          <a:xfrm>
            <a:off x="205740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sigmund-freud-med" descr=""/>
          <p:cNvPicPr/>
          <p:nvPr/>
        </p:nvPicPr>
        <p:blipFill>
          <a:blip r:embed=""/>
          <a:stretch/>
        </p:blipFill>
        <p:spPr>
          <a:xfrm>
            <a:off x="205740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albert-einstein-1" descr=""/>
          <p:cNvPicPr/>
          <p:nvPr/>
        </p:nvPicPr>
        <p:blipFill>
          <a:blip r:embed=""/>
          <a:stretch/>
        </p:blipFill>
        <p:spPr>
          <a:xfrm>
            <a:off x="2057400" y="311292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4" name="sigmund-freud-med" descr=""/>
          <p:cNvPicPr/>
          <p:nvPr/>
        </p:nvPicPr>
        <p:blipFill>
          <a:blip r:embed="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24965-004-63849e2c" descr=""/>
          <p:cNvPicPr/>
          <p:nvPr/>
        </p:nvPicPr>
        <p:blipFill>
          <a:blip r:embed=""/>
          <a:stretch/>
        </p:blipFill>
        <p:spPr>
          <a:xfrm>
            <a:off x="2057400" y="51768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96" name="sigmund-freud-med" descr=""/>
          <p:cNvPicPr/>
          <p:nvPr/>
        </p:nvPicPr>
        <p:blipFill>
          <a:blip r:embed=""/>
          <a:stretch/>
        </p:blipFill>
        <p:spPr>
          <a:xfrm>
            <a:off x="20574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albert-einstein-1" descr=""/>
          <p:cNvPicPr/>
          <p:nvPr/>
        </p:nvPicPr>
        <p:blipFill>
          <a:blip r:embed=""/>
          <a:stretch/>
        </p:blipFill>
        <p:spPr>
          <a:xfrm>
            <a:off x="0" y="517032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8" name="24965-004-63849e2c" descr=""/>
          <p:cNvPicPr/>
          <p:nvPr/>
        </p:nvPicPr>
        <p:blipFill>
          <a:blip r:embed=""/>
          <a:stretch/>
        </p:blipFill>
        <p:spPr>
          <a:xfrm>
            <a:off x="669960" y="51768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99" name="anna" descr=""/>
          <p:cNvPicPr/>
          <p:nvPr/>
        </p:nvPicPr>
        <p:blipFill>
          <a:blip r:embed=""/>
          <a:stretch/>
        </p:blipFill>
        <p:spPr>
          <a:xfrm>
            <a:off x="1371600" y="5076720"/>
            <a:ext cx="406440" cy="638280"/>
          </a:xfrm>
          <a:prstGeom prst="rect">
            <a:avLst/>
          </a:prstGeom>
          <a:ln w="0">
            <a:noFill/>
          </a:ln>
        </p:spPr>
      </p:pic>
      <p:pic>
        <p:nvPicPr>
          <p:cNvPr id="100" name="josef" descr=""/>
          <p:cNvPicPr/>
          <p:nvPr/>
        </p:nvPicPr>
        <p:blipFill>
          <a:blip r:embed=""/>
          <a:stretch/>
        </p:blipFill>
        <p:spPr>
          <a:xfrm>
            <a:off x="0" y="60912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101" name="Ernst" descr=""/>
          <p:cNvPicPr/>
          <p:nvPr/>
        </p:nvPicPr>
        <p:blipFill>
          <a:blip r:embed=""/>
          <a:stretch/>
        </p:blipFill>
        <p:spPr>
          <a:xfrm>
            <a:off x="530280" y="5943600"/>
            <a:ext cx="61272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16080" y="5943600"/>
            <a:ext cx="6127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Sigmund Freud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igmund Freud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artha Bern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200400"/>
            <a:ext cx="60958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moking cigars, Studying Neurology,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sychology, Neurology, Philosophy, Psychiatry, Psychotherapy, Psycho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 don't listen to m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Secret Diary of Sigmund Fre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'm not interested in the tele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Sexual Enlightenment Of Children, Five Lectures on Psycho-Analysis, Three Case Histories, Beyond the Pleasure Principle, The Future of an Illu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England,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020) 8675-30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28600" y="457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17360" y="5386320"/>
            <a:ext cx="739800" cy="557280"/>
          </a:xfrm>
          <a:prstGeom prst="rect">
            <a:avLst/>
          </a:prstGeom>
          <a:ln w="0">
            <a:noFill/>
          </a:ln>
        </p:spPr>
      </p:pic>
      <p:pic>
        <p:nvPicPr>
          <p:cNvPr id="148" name="ego" descr=""/>
          <p:cNvPicPr/>
          <p:nvPr/>
        </p:nvPicPr>
        <p:blipFill>
          <a:blip r:embed=""/>
          <a:stretch/>
        </p:blipFill>
        <p:spPr>
          <a:xfrm>
            <a:off x="228600" y="6167520"/>
            <a:ext cx="4572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8288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724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mund Freud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freud%20family" descr=""/>
          <p:cNvPicPr/>
          <p:nvPr/>
        </p:nvPicPr>
        <p:blipFill>
          <a:blip r:embed=""/>
          <a:stretch/>
        </p:blipFill>
        <p:spPr>
          <a:xfrm>
            <a:off x="91440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ego" descr=""/>
          <p:cNvPicPr/>
          <p:nvPr/>
        </p:nvPicPr>
        <p:blipFill>
          <a:blip r:embed=""/>
          <a:stretch/>
        </p:blipFill>
        <p:spPr>
          <a:xfrm>
            <a:off x="2057400" y="5029200"/>
            <a:ext cx="781200" cy="1147680"/>
          </a:xfrm>
          <a:prstGeom prst="rect">
            <a:avLst/>
          </a:prstGeom>
          <a:ln w="0">
            <a:noFill/>
          </a:ln>
        </p:spPr>
      </p:pic>
      <p:pic>
        <p:nvPicPr>
          <p:cNvPr id="178" name="sigmund-freud-med" descr=""/>
          <p:cNvPicPr/>
          <p:nvPr/>
        </p:nvPicPr>
        <p:blipFill>
          <a:blip r:embed=""/>
          <a:stretch/>
        </p:blipFill>
        <p:spPr>
          <a:xfrm>
            <a:off x="3657600" y="5029200"/>
            <a:ext cx="114300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sigmund-freud-med" descr=""/>
          <p:cNvPicPr/>
          <p:nvPr/>
        </p:nvPicPr>
        <p:blipFill>
          <a:blip r:embed=""/>
          <a:stretch/>
        </p:blipFill>
        <p:spPr>
          <a:xfrm>
            <a:off x="228600" y="457200"/>
            <a:ext cx="685800" cy="696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46320" y="1828800"/>
            <a:ext cx="1039680" cy="114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743200" y="1828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249800" y="1828800"/>
            <a:ext cx="1693800" cy="130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400800" y="18288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14300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743200" y="3200400"/>
            <a:ext cx="1911240" cy="1390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800600" y="340992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12-17T16:04:18Z</dcterms:modified>
  <cp:revision>20</cp:revision>
  <dc:subject/>
  <dc:title>Profile</dc:title>
</cp:coreProperties>
</file>